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DBD4-32A5-4A6A-8156-367DE54C8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1B8C-9576-4D4A-9A24-30B0CC94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7C0B-666A-4697-97FB-9F3A0147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9DCF-3FC4-43DE-8B41-F619A903D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9443-1A56-4CE2-AE20-88E85C8F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7B2B-3844-4106-AF17-9607CE00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6D4D-FCDE-4277-BB49-9ABC74DA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383B-387E-4520-B23D-B44005CA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7C70-E73F-43A4-B292-6CD0CD4B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0C28-37EB-4E1E-8C40-5EC35FB5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50C4-C41F-459E-A3F3-2991EFB0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F643-C077-404A-AAD9-C11E0AAE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F511-0B33-471A-BEDC-F7EE015DDF2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1547640" y="2349360"/>
            <a:ext cx="605016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500" spc="-1" strike="noStrike">
                <a:solidFill>
                  <a:srgbClr val="000000"/>
                </a:solidFill>
                <a:latin typeface="Bookman Old Style"/>
              </a:rPr>
              <a:t>Investigação Geológica e Geotécnic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179280" y="526428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oleta de Amos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108000" y="1484280"/>
            <a:ext cx="892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mostra deformada: amostra de solo retirada com a destruição ou modificação apreciável de suas características “in situ”; também chamada de amostra amolgada quando ocorre a fragmentação do material amost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1" descr="raspagem 01"/>
          <p:cNvPicPr/>
          <p:nvPr/>
        </p:nvPicPr>
        <p:blipFill>
          <a:blip r:embed="rId3"/>
          <a:stretch/>
        </p:blipFill>
        <p:spPr>
          <a:xfrm>
            <a:off x="533520" y="2781360"/>
            <a:ext cx="3606840" cy="3733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9" name="Picture 12" descr="Jazida"/>
          <p:cNvPicPr/>
          <p:nvPr/>
        </p:nvPicPr>
        <p:blipFill>
          <a:blip r:embed="rId4"/>
          <a:stretch/>
        </p:blipFill>
        <p:spPr>
          <a:xfrm>
            <a:off x="5033880" y="2781360"/>
            <a:ext cx="3570480" cy="3733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Rectangle 13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" dur="1" fill="hold"/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oleta de Amos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108000" y="1484280"/>
            <a:ext cx="8928000" cy="15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mostra deformada: amostra de solo retirada com a destruição ou modificação apreciável de suas características “in situ”; também chamada de amostra amolgada quando ocorre a fragmentação do material amostr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IMAGE0143"/>
          <p:cNvPicPr/>
          <p:nvPr/>
        </p:nvPicPr>
        <p:blipFill>
          <a:blip r:embed="rId3"/>
          <a:stretch/>
        </p:blipFill>
        <p:spPr>
          <a:xfrm>
            <a:off x="250920" y="3141720"/>
            <a:ext cx="4101840" cy="3076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5" name="Picture 12" descr="Gela 049"/>
          <p:cNvPicPr/>
          <p:nvPr/>
        </p:nvPicPr>
        <p:blipFill>
          <a:blip r:embed="rId4"/>
          <a:stretch/>
        </p:blipFill>
        <p:spPr>
          <a:xfrm>
            <a:off x="4788000" y="3141720"/>
            <a:ext cx="4103640" cy="307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Rectangle 13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9" dur="1" fill="hold"/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oleta de Amos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108000" y="1484280"/>
            <a:ext cx="892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mostra deformada: amostra de solo retirada com a destruição ou modificação apreciável de suas características “in situ”; também chamada de amostra amolgada quando ocorre a fragmentação do material amost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Secagem"/>
          <p:cNvPicPr/>
          <p:nvPr/>
        </p:nvPicPr>
        <p:blipFill>
          <a:blip r:embed="rId3"/>
          <a:stretch/>
        </p:blipFill>
        <p:spPr>
          <a:xfrm>
            <a:off x="539640" y="2852640"/>
            <a:ext cx="3657600" cy="3637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1" name="Picture 11" descr="IMAGE0038"/>
          <p:cNvPicPr/>
          <p:nvPr/>
        </p:nvPicPr>
        <p:blipFill>
          <a:blip r:embed="rId4"/>
          <a:stretch/>
        </p:blipFill>
        <p:spPr>
          <a:xfrm>
            <a:off x="4788000" y="3213000"/>
            <a:ext cx="3962160" cy="2971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Rectangle 12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7" dur="1" fill="hold"/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oleta de Amos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08000" y="1484280"/>
            <a:ext cx="8928000" cy="11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mostra indeformada: amostra de solo retirada sem ou com pequena modificação de suas características “in situ” com o uso de equipamentos e técnicas apropriad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3"/>
          <a:stretch/>
        </p:blipFill>
        <p:spPr>
          <a:xfrm>
            <a:off x="2050920" y="2755800"/>
            <a:ext cx="4861080" cy="3913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7" name="Rectangle 10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oleta de Amos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08000" y="1484280"/>
            <a:ext cx="8928000" cy="11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mostra indeformada: amostra de solo retirada sem ou com pequena modificação de suas características “in situ” com o uso de equipamentos e técnicas apropriad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1" descr=""/>
          <p:cNvPicPr/>
          <p:nvPr/>
        </p:nvPicPr>
        <p:blipFill>
          <a:blip r:embed="rId3"/>
          <a:stretch/>
        </p:blipFill>
        <p:spPr>
          <a:xfrm>
            <a:off x="4786200" y="2852640"/>
            <a:ext cx="3889440" cy="3803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4" name="Picture 12" descr=""/>
          <p:cNvPicPr/>
          <p:nvPr/>
        </p:nvPicPr>
        <p:blipFill>
          <a:blip r:embed="rId4"/>
          <a:stretch/>
        </p:blipFill>
        <p:spPr>
          <a:xfrm>
            <a:off x="468360" y="2852640"/>
            <a:ext cx="3363840" cy="3797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oleta de Amos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08000" y="1484280"/>
            <a:ext cx="8928000" cy="11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mostra indeformada: amostra de solo retirada sem ou com pequena modificação de suas características “in situ” com o uso de equipamentos e técnicas apropriad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Amostra indeformada"/>
          <p:cNvPicPr/>
          <p:nvPr/>
        </p:nvPicPr>
        <p:blipFill>
          <a:blip r:embed="rId3"/>
          <a:stretch/>
        </p:blipFill>
        <p:spPr>
          <a:xfrm>
            <a:off x="250920" y="2971800"/>
            <a:ext cx="3960720" cy="3049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8" name="Picture 11" descr="amostra indeformada 02"/>
          <p:cNvPicPr/>
          <p:nvPr/>
        </p:nvPicPr>
        <p:blipFill>
          <a:blip r:embed="rId4"/>
          <a:stretch/>
        </p:blipFill>
        <p:spPr>
          <a:xfrm>
            <a:off x="4597560" y="2637000"/>
            <a:ext cx="4295520" cy="392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9" name="Rectangle 12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Métodos de Investigação Ge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108000" y="1700280"/>
            <a:ext cx="8928000" cy="41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Unidade geológica: é um corpo geológico espacialmente delimitado, com características específicas e comportamento similar face à determinada solicitaçã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orpo geológico: Camada, zona ou trecho capaz de ser delimitado em superfície e/ou em subsuperfície, com características e propriedades singular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omportamento similar: Comportamento semelhante face à mesma solicitaçã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Solicitação: Ação sobre o ambiente geológico imposta, induzida ou resultante da interação com a ocupação antrópic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Unidades Geológ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108000" y="1797120"/>
            <a:ext cx="8928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Toda unidade geológica está associada a um processo geológico específico, de tal sorte que o conhecimento dos processos que atuaram num local determinado é essencial para o conhecimento das unidades present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Uma unidade geológica pode ser constituída por um conjunto de camadas ou por camadas individualizadas, em conformidade com a solicitaçã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Exemplo: No caso de uma rodovia, uma camada de argila orgânica de um corpo aluvionar será considerada como uma unidade geológica, devido à possibilidade de induzir recalques do pavimento. Por outro lado, para fins de escavação, um conjunto de várias camadas de um aluvião, pode ser considerado como uma única unidade geológic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A investigação ge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08000" y="1268280"/>
            <a:ext cx="8928000" cy="52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racterizar as solicitaçõ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valiar as unidades geológicas presentes em função dos dados existentes, de reconhecimento geológico e outros métod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lecionar os métodos de investigação aplicáveis em função das solicitações, unidades geológicas, fase dos estudos, logística, resolução, prazo, custo e outras variáveis e distribuir as investigações na área através de critérios geométrico e geológic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laborar especificações executivas, procedimentos de fiscalização, critérios de medição e pagamento, contrato e licitaç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companhar os resultados e ajustar o plano de investigaç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rpretar os resultados e elaborar os modelos geológico e geomecânic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laborar seções geológicas e outras formas de apresentação de dados conforme requeri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companhar a escolha da solução e o desenvolvimento do proje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Principais limit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08000" y="1797120"/>
            <a:ext cx="8928000" cy="44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Resolução: capacidade do método de fornecer a informação desejada; a resolução de cada método pode variar conforme a solicitação ou ambient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Prazo: o prazo disponível para as investigações pode limitar ou até impedir a  aplicação de determinados métodos em função do tempo de execução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usto: o custo das investigações varia entre um e três por cento do custo do empreendimento ou obra, exceto em casos especiai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usto x benefício: há um relação ótima entre o volume de investigação, que se reflete no custo das investigações e as informações obtidas, ou seja, o benefício alcanç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Métodos Geofís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108000" y="1341360"/>
            <a:ext cx="8928000" cy="50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étodos sísm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ão os mais empregados por refletirem as propriedades mecânicas das rochas e facilitam a interpretação e correlação com dados de sondagens dire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ísmica de refração (mais empregado); Sísmica de reflexão; Crosshole e tomografia sís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étodos geoelét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letroresistividade (sondagem elétrica vertical e caminhamento elétrico); Potencial espontâneo; Condutividade (VLF); Radar de penetração (GP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utros métodos geofís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eofísica subaquática (sonografia, ecobatimentria, magnetometria e gravimet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Poços (PI) e trincheiras (TR) de inspe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08000" y="1003320"/>
            <a:ext cx="8928000" cy="53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ços: escavação manual, com enxadão, pá e sarilho, com seções de 1,0m2 de lado, atravessando as camadas de sol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fundidade limitada pela presença de água, material instável e rocha; para prosseguir a escavação nessas condições são necessários procedimentos especiai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isualização de grande extensão do material e a retirada de grandes volumes de amostra e de amostras indeformad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ápido até 10m. Profundidade máxima em condições ideais: 2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incheiras são escavações em forma de valeta; podem ser feitas mecanicamen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uidados: instabilização das paredes; quedas de pessoas e animais (necessário cerca e cobertu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Poços (PI) e trincheiras (TR) de inspe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Gela 020"/>
          <p:cNvPicPr/>
          <p:nvPr/>
        </p:nvPicPr>
        <p:blipFill>
          <a:blip r:embed="rId2"/>
          <a:stretch/>
        </p:blipFill>
        <p:spPr>
          <a:xfrm>
            <a:off x="109440" y="2421000"/>
            <a:ext cx="4318200" cy="324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9" name="Picture 10" descr="Gela 024"/>
          <p:cNvPicPr/>
          <p:nvPr/>
        </p:nvPicPr>
        <p:blipFill>
          <a:blip r:embed="rId3"/>
          <a:stretch/>
        </p:blipFill>
        <p:spPr>
          <a:xfrm>
            <a:off x="4643280" y="2421000"/>
            <a:ext cx="4318200" cy="324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0" name="Rectangle 11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Sondagem a T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108000" y="1797120"/>
            <a:ext cx="892800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Escavados manualmente com o auxílio de uma broca chamada trado, acoplada a hastes de aço de ¾ de polegadas e a um tê para imprimir o movimento giratório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Somente atravessa a camada de solo, sendo interrompidos pela ocorrência de quaisquer materiais mais duros (rocha alterada mole, linha de seixos, etc) e pela presença de água subterrânea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Permite a obtenção de grande volume de amostras deformada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Método rápido e portátil; profundidade máxima em condições ideais: 25 a 30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14:03:03Z</dcterms:created>
  <dc:creator>José Rojas</dc:creator>
  <dc:description/>
  <dc:language>en-US</dc:language>
  <cp:lastModifiedBy>José Rojas</cp:lastModifiedBy>
  <dcterms:modified xsi:type="dcterms:W3CDTF">2014-05-09T11:53:50Z</dcterms:modified>
  <cp:revision>87</cp:revision>
  <dc:subject/>
  <dc:title>Slide 1</dc:title>
</cp:coreProperties>
</file>